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E9C4-1094-44A5-9522-F03B8A30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BDFA-BD4C-40E5-8652-568BBD29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581-D780-4066-9093-206E7B56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E1D-9646-4B4F-99C1-1CF36849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989-5678-4D4C-B145-BC6CE455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2C5-104A-4B1F-AF9F-A7A236EA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BFA-D956-4BD0-9753-A8517650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8DD-84CD-44CB-924E-4084CE80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9BA7-AAE5-4C2D-B337-AAEFE6D9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B153-7200-4498-9D4B-5D55C34C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7B1E-C9E2-4C7E-B41C-72199DB8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D0D4-22FA-4CC5-B2DA-D47D37A1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833F-B4C3-41E6-88F9-BDBED331EFA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2895480"/>
            <a:ext cx="6705360" cy="914400"/>
            <a:chOff x="990720" y="2895480"/>
            <a:chExt cx="6705360" cy="914400"/>
          </a:xfrm>
        </p:grpSpPr>
        <p:sp>
          <p:nvSpPr>
            <p:cNvPr id="42" name=""/>
            <p:cNvSpPr/>
            <p:nvPr/>
          </p:nvSpPr>
          <p:spPr>
            <a:xfrm>
              <a:off x="990720" y="2895480"/>
              <a:ext cx="670536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219320" y="31240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209680" y="3124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91120" y="2971800"/>
                  <a:ext cx="27176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838080" y="533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724280" y="38088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90720" y="1371600"/>
            <a:ext cx="6705360" cy="609480"/>
            <a:chOff x="990720" y="137160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90720" y="137160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90720" y="2133720"/>
            <a:ext cx="6705360" cy="609480"/>
            <a:chOff x="990720" y="213372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90720" y="213372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219320" y="220968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209680" y="220968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90720" y="3962520"/>
            <a:ext cx="6705360" cy="685800"/>
            <a:chOff x="990720" y="396252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90720" y="40384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219320" y="396252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286000" y="4114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91120" y="396252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90720" y="4952880"/>
            <a:ext cx="6705360" cy="611280"/>
            <a:chOff x="990720" y="495288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90720" y="49528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219320" y="502920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286000" y="5029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486400" y="495288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6227640" y="2924280"/>
            <a:ext cx="792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740720" y="2205000"/>
            <a:ext cx="914400" cy="762120"/>
            <a:chOff x="7740720" y="2205000"/>
            <a:chExt cx="914400" cy="762120"/>
          </a:xfrm>
        </p:grpSpPr>
        <p:sp>
          <p:nvSpPr>
            <p:cNvPr id="68" name=""/>
            <p:cNvSpPr/>
            <p:nvPr/>
          </p:nvSpPr>
          <p:spPr>
            <a:xfrm>
              <a:off x="7740720" y="2205000"/>
              <a:ext cx="914400" cy="762120"/>
            </a:xfrm>
            <a:prstGeom prst="wedgeRoundRectCallout">
              <a:avLst>
                <a:gd name="adj1" fmla="val -116148"/>
                <a:gd name="adj2" fmla="val 79791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16680" y="2357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6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7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68360" y="189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 flipV="1">
            <a:off x="169236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39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0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 flipV="1">
            <a:off x="2411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2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3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320364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flipV="1">
            <a:off x="3059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5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6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50872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 flipV="1">
            <a:off x="378000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63640" y="58053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90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95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2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2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116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4643280" y="602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5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5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572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575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5128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900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9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9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0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611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614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124000" y="595008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2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3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343400" y="345960"/>
                <a:ext cx="42512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990720" y="1066680"/>
            <a:ext cx="6400800" cy="609840"/>
            <a:chOff x="990720" y="1066680"/>
            <a:chExt cx="6400800" cy="609840"/>
          </a:xfrm>
        </p:grpSpPr>
        <p:sp>
          <p:nvSpPr>
            <p:cNvPr id="73" name=""/>
            <p:cNvSpPr/>
            <p:nvPr/>
          </p:nvSpPr>
          <p:spPr>
            <a:xfrm>
              <a:off x="990720" y="10666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219320" y="1066680"/>
                  <a:ext cx="20714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990720" y="1752480"/>
            <a:ext cx="6400800" cy="609480"/>
            <a:chOff x="990720" y="1752480"/>
            <a:chExt cx="6400800" cy="609480"/>
          </a:xfrm>
        </p:grpSpPr>
        <p:sp>
          <p:nvSpPr>
            <p:cNvPr id="76" name=""/>
            <p:cNvSpPr/>
            <p:nvPr/>
          </p:nvSpPr>
          <p:spPr>
            <a:xfrm>
              <a:off x="990720" y="175248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219320" y="175248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990720" y="5105520"/>
            <a:ext cx="6400800" cy="685800"/>
            <a:chOff x="990720" y="510552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990720" y="510552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14300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990720" y="5867280"/>
            <a:ext cx="6400800" cy="635040"/>
            <a:chOff x="990720" y="5867280"/>
            <a:chExt cx="6400800" cy="635040"/>
          </a:xfrm>
        </p:grpSpPr>
        <p:sp>
          <p:nvSpPr>
            <p:cNvPr id="82" name=""/>
            <p:cNvSpPr/>
            <p:nvPr/>
          </p:nvSpPr>
          <p:spPr>
            <a:xfrm>
              <a:off x="990720" y="58672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1430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990720" y="2362320"/>
            <a:ext cx="6400800" cy="2678040"/>
            <a:chOff x="990720" y="2362320"/>
            <a:chExt cx="6400800" cy="2678040"/>
          </a:xfrm>
        </p:grpSpPr>
        <p:sp>
          <p:nvSpPr>
            <p:cNvPr id="85" name=""/>
            <p:cNvSpPr/>
            <p:nvPr/>
          </p:nvSpPr>
          <p:spPr>
            <a:xfrm>
              <a:off x="990720" y="2438640"/>
              <a:ext cx="6400800" cy="259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828800" y="3048120"/>
                  <a:ext cx="5311800" cy="19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219320" y="2362320"/>
                  <a:ext cx="271620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 flipV="1">
            <a:off x="3780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5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6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556000" y="5877000"/>
                <a:ext cx="198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5003640" y="5950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24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29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2771640" y="587700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2" name=""/>
          <p:cNvSpPr/>
          <p:nvPr/>
        </p:nvSpPr>
        <p:spPr>
          <a:xfrm>
            <a:off x="5148360" y="595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6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45720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8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9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45720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１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1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2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7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8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2340000" y="5805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し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0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1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２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3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4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92360" y="5516640"/>
                <a:ext cx="2636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916360" y="1268280"/>
                <a:ext cx="207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" name=""/>
          <p:cNvGrpSpPr/>
          <p:nvPr/>
        </p:nvGrpSpPr>
        <p:grpSpPr>
          <a:xfrm>
            <a:off x="1828800" y="3733920"/>
            <a:ext cx="685800" cy="1066680"/>
            <a:chOff x="1828800" y="3733920"/>
            <a:chExt cx="685800" cy="1066680"/>
          </a:xfrm>
        </p:grpSpPr>
        <p:sp>
          <p:nvSpPr>
            <p:cNvPr id="91" name=""/>
            <p:cNvSpPr/>
            <p:nvPr/>
          </p:nvSpPr>
          <p:spPr>
            <a:xfrm>
              <a:off x="1828800" y="3733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91440" y="380448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12960" y="457200"/>
                <a:ext cx="3184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59092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28800" y="2209680"/>
            <a:ext cx="685800" cy="1067040"/>
            <a:chOff x="1828800" y="2209680"/>
            <a:chExt cx="685800" cy="1067040"/>
          </a:xfrm>
        </p:grpSpPr>
        <p:sp>
          <p:nvSpPr>
            <p:cNvPr id="97" name=""/>
            <p:cNvSpPr/>
            <p:nvPr/>
          </p:nvSpPr>
          <p:spPr>
            <a:xfrm>
              <a:off x="1828800" y="220968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392200" y="294876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312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6360" y="234936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29272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8764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91480" y="32288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19720" y="32767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94040" y="32767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56000" y="436572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97964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34000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64000" y="1268280"/>
                <a:ext cx="138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70036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08000" y="551664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11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95640" y="551664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82692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72000" y="4724280"/>
                <a:ext cx="198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43280" y="537372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43280" y="602136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995640" y="4724280"/>
            <a:ext cx="48974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6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7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>
            <a:off x="3708360" y="595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0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0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7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３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3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3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6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6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8" name=""/>
          <p:cNvSpPr/>
          <p:nvPr/>
        </p:nvSpPr>
        <p:spPr>
          <a:xfrm>
            <a:off x="3708360" y="5877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57200" y="380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920" y="58770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いずれも，入力語を読み終えたとき受理状態に到達しないか，入力語を読み終えることができないので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123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128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468360" y="4797360"/>
                <a:ext cx="8205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は末尾が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であるような語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3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39640" y="6021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5640" y="62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065320" y="2530440"/>
            <a:ext cx="685800" cy="1066680"/>
            <a:chOff x="2065320" y="2530440"/>
            <a:chExt cx="685800" cy="1066680"/>
          </a:xfrm>
        </p:grpSpPr>
        <p:sp>
          <p:nvSpPr>
            <p:cNvPr id="1147" name=""/>
            <p:cNvSpPr/>
            <p:nvPr/>
          </p:nvSpPr>
          <p:spPr>
            <a:xfrm>
              <a:off x="2065320" y="253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127960" y="260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282744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6572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2065320" y="1006560"/>
            <a:ext cx="685800" cy="1066680"/>
            <a:chOff x="2065320" y="1006560"/>
            <a:chExt cx="685800" cy="1066680"/>
          </a:xfrm>
        </p:grpSpPr>
        <p:sp>
          <p:nvSpPr>
            <p:cNvPr id="1152" name=""/>
            <p:cNvSpPr/>
            <p:nvPr/>
          </p:nvSpPr>
          <p:spPr>
            <a:xfrm>
              <a:off x="2065320" y="10065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2628720" y="174528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455840" y="199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8900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2764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6592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942240" y="1920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1712880" y="114624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5529240" y="193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3224160" y="193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7128000" y="2025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4656240" y="207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2230560" y="207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2792520" y="316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3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4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492360" y="602136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6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7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03280" y="602136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4716360" y="609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9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0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219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222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5564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258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261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75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80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0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1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10:55Z</dcterms:modified>
  <cp:revision>26</cp:revision>
  <dc:subject/>
  <dc:title>PowerPoint プレゼンテーション</dc:title>
</cp:coreProperties>
</file>